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D20-F028-437F-AC22-B4A6CE1F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B337-B88D-4A2E-B0BA-4287958C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45F-BAE6-4E9A-9674-FD6C52CE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1E3-2549-437D-BC19-982448FB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9771-5CD0-4159-8E2C-A92135DC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C1CD-AE36-46EF-BA6F-4C99389D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6736-2E21-41C0-BA35-8852E5368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6437-3281-4C19-95A0-34E84DB8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9F2F-FD75-45EA-8539-E95DBCF3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F09A-0C6B-4F21-89E0-58A5615B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0F7F-7D90-4963-BCD5-660827CA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64F6-64F5-40FB-A4D2-815ECB40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3D57-0BE6-4B3E-885F-5A1C6D1C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140D-F101-47D4-B005-459EF63D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D157-8C83-444A-B594-10F68567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7284-21F7-4ECC-AA47-C26F179B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56AE-B7BC-47B1-9B75-2BD9F6FAB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764-93F0-4994-BD9E-C3A37351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CD3-5C8B-43D0-A5FC-F5933311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9001-A67C-4645-8215-692396EE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46E-33EE-40CB-AA54-4DBDB014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C415-596B-4B20-9258-CE62C84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91DA-8F51-4853-B1A4-C3A1596F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0BBC-3EF2-4ED5-BDF8-35EF8A34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AEA7-68B7-44F2-A9FE-E38E72C62A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513B-96FC-4B01-850F-24E6F702B70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apter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tter– Properties and Cha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erties of 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you ever accidentally eaten soa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id it taste li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s have a bitter taste and are slippe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 of matter that allows it to change to a different type of ma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when you strike a mat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happens when you leave an apple on the coun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easily a chemical reacts with another chem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on rusts easily due to its high reactivity with oxyg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d and silver have low reactivity and therefore are ideal for jewel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35080206"/>
          <p:cNvPicPr/>
          <p:nvPr/>
        </p:nvPicPr>
        <p:blipFill>
          <a:blip r:embed="rId4"/>
          <a:stretch/>
        </p:blipFill>
        <p:spPr>
          <a:xfrm>
            <a:off x="4734000" y="1955880"/>
            <a:ext cx="386712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Properties of Ac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 with/corrode me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harm body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cu_6"/>
          <p:cNvPicPr/>
          <p:nvPr/>
        </p:nvPicPr>
        <p:blipFill>
          <a:blip r:embed="rId3"/>
          <a:stretch/>
        </p:blipFill>
        <p:spPr>
          <a:xfrm>
            <a:off x="762120" y="2295360"/>
            <a:ext cx="380988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Properties of Ba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damage living tiss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nhaled can cause nose to bl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els slippery to the touch because it reacts with proteins in the sk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5" descr="f04-05"/>
          <p:cNvPicPr/>
          <p:nvPr/>
        </p:nvPicPr>
        <p:blipFill>
          <a:blip r:embed="rId4"/>
          <a:stretch/>
        </p:blipFill>
        <p:spPr>
          <a:xfrm>
            <a:off x="4648320" y="2570040"/>
            <a:ext cx="4038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unds made of a metal and non-metal that is a result of an acid-base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ble Salt (sodium chloride) is made from a reaction of Hydrochloric acid and Sodium Hydrox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ld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a Shutter-Fo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t 6 shutters on each s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five the first shutter clo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bel that shutter “ACIDS” on the left and “BASES” on the r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py down Table 2 on page 141 in your fold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change in shape, size, form, or state where the identity of matter remains the s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s4_ice_melt2"/>
          <p:cNvPicPr/>
          <p:nvPr/>
        </p:nvPicPr>
        <p:blipFill>
          <a:blip r:embed="rId2"/>
          <a:stretch/>
        </p:blipFill>
        <p:spPr>
          <a:xfrm>
            <a:off x="5238720" y="243684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emical 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s when one type of matter changes into another kind of matter with new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: Photosynthesis, rust, silver tarnishing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FG08_04-04UN"/>
          <p:cNvPicPr/>
          <p:nvPr/>
        </p:nvPicPr>
        <p:blipFill>
          <a:blip r:embed="rId3"/>
          <a:stretch/>
        </p:blipFill>
        <p:spPr>
          <a:xfrm>
            <a:off x="649440" y="1600200"/>
            <a:ext cx="3654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s of a chemical ch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as bub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ble g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pitate- a solid that forms as a result of a chemical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ory La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r science team will be given a ping-pong ball and a golf 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write down their similarities and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: Since both balls are made of plastic, will both balls float in wat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pothesis: If…then…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ges in Na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weath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ponsible for most of the shape of Earth’s su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vity, plants, animals, and earthquakes all contribute to physical weath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Cha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mical weath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ion of stalacti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id r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 Scale Diag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have a pH ranging from 0-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 is neut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s have a pH ranging from 7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, make a poster using what you know about the pH scale. Be sure to label acids, bases, and neutral. Give examples of several known pH read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y Vocabul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 of ma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dependent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ze independent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mical 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ctivit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ysical Proper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characteristic of matter than can be observed without changing the identity of the mat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on Examp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lting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iling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ezing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s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mount of mass in a given 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lf ball is more dense than a ping-pong ball so the golf ball sinks in water and the ping-pong ball flo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nsity = mass/vol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of Mat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ther matter is in solid, liquid, gas, or plasma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50011_1"/>
          <p:cNvPicPr/>
          <p:nvPr/>
        </p:nvPicPr>
        <p:blipFill>
          <a:blip r:embed="rId2"/>
          <a:stretch/>
        </p:blipFill>
        <p:spPr>
          <a:xfrm>
            <a:off x="4876920" y="2409840"/>
            <a:ext cx="373356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erties related to siz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-dependent properties- change with the size of a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and 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-Independent properties- do not change with the change in size of a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H Sca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is the measure of Hydronium Ions present in a substance…sounds more complicated than it i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 is measured on a scale of 1-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is extremely acidic and 14 is extremely bas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 is neut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integer is an increase of 10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perties of Ac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 you think of when you hear the word ACI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ids are in some foods we eat and others can severely harm y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time you eat citrus you eat acid (ascorbic aci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aste does a lemon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0:20:00Z</dcterms:created>
  <dc:creator>Adam's Homepage</dc:creator>
  <dc:description/>
  <dc:language>en-US</dc:language>
  <cp:lastModifiedBy> </cp:lastModifiedBy>
  <dcterms:modified xsi:type="dcterms:W3CDTF">2011-10-25T12:28:56Z</dcterms:modified>
  <cp:revision>4</cp:revision>
  <dc:subject/>
  <dc:title>Chapter 5</dc:title>
</cp:coreProperties>
</file>